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E16-A6F4-481F-9D36-9ED1051D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88E-C66B-47ED-8E6A-56EA2AA2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10B-FEDE-4E60-A6D7-52397BB7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4DD-A884-4487-949E-21CC2473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D99-ABDD-4645-A413-CA06174A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C81-B88F-4EBE-B04A-C39D871D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BAF-4226-4220-90C0-9EA32247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145-CD11-4118-A7DD-0C27D234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CF9-B598-4E1B-B307-0436EC22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5FC-AE46-4628-83DE-94A202A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893-3458-4DAF-A409-0FF82487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950-F0E5-4CEF-821D-BE78936E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9A6A-817F-41C8-ABF4-6359838EF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5 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19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change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523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versible physical changes, they are NOT changes from one substance to a new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057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changes take place when a substance changes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e state of mat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53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phas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lting = solid gains energy (temp), causing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to vib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0574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point (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) causes molecules to overc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ttractions and move away (bonds brea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743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is complete when all molecules have gain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ough energy to move a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429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reezing  = opposite of melting, but at same temp (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733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lecules get drawn into orderly arrangement because attractions of molecules tak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419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Vaporization = liquid to gas phase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48006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bsorbs energy in order to change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81480"/>
            <a:ext cx="655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othermic process = absorbs energy from another object: example me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 = system releases energy to 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s EX: 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447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types of vapor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752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vaporation:  the process by which the subs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a liquid to a gas at temps 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boil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8195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lower levels in a fish ta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200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oiling: vaporization which takes place when boiling substance changes to a gas (vap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9625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boiling pot of water left on the stove to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…no mo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ondensation: phase change in which a subs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a GAS to a VAPOR or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447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otherm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828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mirror in the bathroom appears cloudy after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shower (water condenses on the mi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590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glass of ice tea after a few minutes appea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w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276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ublimation: phase change in which a substance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solid to a gas or vapor without changing t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419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ndothermic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dry 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Deposition: gas vapor changes directly to a solid witho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hanging to a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752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othermic phas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096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verse of subl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6668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: the temperature of a substance does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during a phas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Boiling water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4:22:24Z</dcterms:created>
  <dc:creator>Farwell Area Schools</dc:creator>
  <dc:description/>
  <dc:language>en-US</dc:language>
  <cp:lastModifiedBy>Farwell Area Schools</cp:lastModifiedBy>
  <dcterms:modified xsi:type="dcterms:W3CDTF">2009-01-26T19:53:22Z</dcterms:modified>
  <cp:revision>8</cp:revision>
  <dc:subject/>
  <dc:title>Note guide 3-5 day 1</dc:title>
</cp:coreProperties>
</file>